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2A7-6510-43E7-B313-3CFC5EDCA7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CEE-00BC-4ECC-9F10-F09FC35E22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C26-F8CF-4D0E-9794-BEAB7D6383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3136-12C9-4D22-81DD-D539DC6F48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3BAE-0244-4F09-87B3-C526A1E03B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9BA-ACE9-495E-A316-F67821E3F8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97A-AED7-453C-A7BA-3B649F7946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6F9-6773-40F9-A175-FD628477D8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8004-F219-43EE-8852-6D166ED44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155-3D70-4089-A077-402B3437B6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E70-C0DB-4B05-AC1C-09ED9D65FA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0242-07FD-4B82-8301-CBD6A2F1F3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686-B36E-4BD2-B776-6B1037ADEE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2FA-D57D-4140-B450-CB2ACE103E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890C-27D3-4A92-9EF1-9092BB524E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06E-0580-4FD2-9941-A0B8F5AFBB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7000" indent="0">
              <a:spcBef>
                <a:spcPts val="28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7000" indent="0"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E46-F47E-4941-AEBF-34B2611660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D31-D076-4AE3-BCA8-0F395A366D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D52-C01C-48CD-830D-3E4CC81CCE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F9EC-4E6B-41C4-94AE-769475DD70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EE7-1117-4AE1-9F2C-D1FE55925E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B13A-F6D4-4A3A-82DA-7CEE819B0B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097-D98C-4C9C-9039-4BA186F3BD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B26-1F73-4493-8F65-016F2B075A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9CB-DE76-4285-97A8-CAA3595A4A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5D4B-9162-4CE2-B614-8256DC98A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7CEA-3E64-4789-9201-1185068558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AC2-D0B8-4D04-A0D0-441051F4C8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B41-E808-4C88-B34D-5AEA1E3CD1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976-A79C-4EEF-B7B3-360E5B8359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E274-3275-483C-9619-074DF8379C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A13-2BDD-4F7F-9E9A-2542837547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6B26-4DA1-470D-9C5A-9F337A76F6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40AF-C252-4A65-BC99-3D6F1CD750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B4C-D4A8-425E-9861-B661E4A6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770-5DBD-430C-AE7F-702CE4CD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6E9-B24F-4232-BB66-E1526FF5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468-C668-47E6-879B-64CFAAC3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58FE-2D96-473A-B1D1-54A3F24A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89BC-27F1-4684-9798-A80CD4E2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837-C948-4C5D-A3B6-9D6B8B7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D208-4F60-4086-8659-593E37FF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C3C-716D-44C1-A756-6381EE2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864D-9828-4EE9-A83A-35CACEF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21AD-C32B-41F3-9EAE-09B72EB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8F4-70E7-4AAD-8953-C776A5C4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2A2-1301-478E-8F55-0B743A2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4CBC-E0B1-4CF5-85EE-D874229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36F6-6E6A-40A5-8D62-276AD94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B8B3-EA9C-40C0-A80B-34A4B69D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9AE-60B0-4773-B435-272F866E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693-0B3A-43CA-8BE1-0B67055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835-F3FB-4F52-B3E4-8A1B8A12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D7F-7284-4765-B51E-88FD83B4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DAF-A0BD-4F42-9EF7-6CCAE0F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CD0-3584-4939-B2DA-6CD6C09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F93-80BD-4240-97AA-CE1193A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767-F7DB-4602-80A0-D9C2C06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5F3-3A89-4FAE-9CD5-5977E653CE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47A-F281-4C75-8AEE-5967211A00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tiology, Classification and Diagnosis of Mental Disorder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aramond"/>
              </a:rPr>
              <a:t>MD, PhD, Milica M. Borovcanin, psychiatris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grated Academic Studies of Medici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sychiat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hool Year 2023/202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46" descr=""/>
          <p:cNvPicPr/>
          <p:nvPr/>
        </p:nvPicPr>
        <p:blipFill>
          <a:blip r:embed="rId1"/>
          <a:stretch/>
        </p:blipFill>
        <p:spPr>
          <a:xfrm>
            <a:off x="3784680" y="76320"/>
            <a:ext cx="153648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lliva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is "a relatively stable pattern of interpersonal situations that shape human life“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personality apart from its relationships with people – emphasizing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rpersonal relationship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ween peo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development does not end in early childhood, but i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ignificantly shaped in adolesc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estalt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"experience of the whole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es not depend only on its individual compone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quality of the whole is in fact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new synthe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ransactional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sonality is the structural and functional organization of three Ego states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parent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Nurturing or Critical Par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adult ego stat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child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Free Child or Adapted Child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exchange of these stimuli between persons constitutes a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ciety is an aggregate of personalities and it forces individuals to accept special roles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role theory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ehavioral 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based on Pavlov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nditioned reflex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basic learning theo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asic idea is that behavior is learned during life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t is condition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ve consequences of a behavior (reward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infor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behavior that caused them, and negative consequences of a behavior (punishment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at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Right Arrow 3"/>
          <p:cNvGrpSpPr/>
          <p:nvPr/>
        </p:nvGrpSpPr>
        <p:grpSpPr>
          <a:xfrm>
            <a:off x="7937640" y="5079960"/>
            <a:ext cx="1003320" cy="1117800"/>
            <a:chOff x="7937640" y="5079960"/>
            <a:chExt cx="1003320" cy="1117800"/>
          </a:xfrm>
        </p:grpSpPr>
        <p:pic>
          <p:nvPicPr>
            <p:cNvPr id="158" name="Right Arrow 3" descr=""/>
            <p:cNvPicPr/>
            <p:nvPr/>
          </p:nvPicPr>
          <p:blipFill>
            <a:blip r:embed="rId1"/>
            <a:stretch/>
          </p:blipFill>
          <p:spPr>
            <a:xfrm>
              <a:off x="7937640" y="507996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8086320" y="530856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ight Arrow 4"/>
          <p:cNvGrpSpPr/>
          <p:nvPr/>
        </p:nvGrpSpPr>
        <p:grpSpPr>
          <a:xfrm>
            <a:off x="7988400" y="3301920"/>
            <a:ext cx="1003320" cy="1117800"/>
            <a:chOff x="7988400" y="3301920"/>
            <a:chExt cx="1003320" cy="1117800"/>
          </a:xfrm>
        </p:grpSpPr>
        <p:pic>
          <p:nvPicPr>
            <p:cNvPr id="161" name="Right Arrow 4" descr=""/>
            <p:cNvPicPr/>
            <p:nvPr/>
          </p:nvPicPr>
          <p:blipFill>
            <a:blip r:embed="rId2"/>
            <a:stretch/>
          </p:blipFill>
          <p:spPr>
            <a:xfrm>
              <a:off x="7988400" y="330192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16200000">
              <a:off x="8085960" y="3753000"/>
              <a:ext cx="7585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lport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its not only show the way, relative consistency in behavior, but also encourage the personality to a certain activity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motivational character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t is possible that something that a person did out of biological necessity later becomes an independent driving for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at was previously a means to satisfy a certain biological motive has become 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autonomous, independent motiv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go Psychological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Hartmann'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psychological theory of personality considers that the Ego has other functions besides those attributed to it by Freu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goals of Ego are not always related to conscious goal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defenses are not always pathologica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pecial attention is paid to adapting the Ego to the environ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aslow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elf-actualization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 an ideal goal, striving for the fullest realization of one's own possi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erson who has reach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his/her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ull potential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 is self-actualiz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rikso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P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rsonality </a:t>
            </a: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is understood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s a continuous proces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at goes through stages, which somewhat coincide with Freud's st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es with characteristic signs (development) continu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til ol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iological Basis of Human Behavio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pleasure principle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organism tries to find the greatest possible pleasure, while at the same time avoiding discomfo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leasure principle is modified by life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modification of the pleasure principle is called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ality princi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eory of Unconscious Motiv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uman being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e not always awar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the motives and goals of their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00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on the unconscious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eaching on re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23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 on Id, Ego and Supereg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Personality traits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ay of behaving and reacting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Temperament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de of emotional respon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Character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volitional and moral characteristic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Mental Life of Human Being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wo basic parts: conscious and 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conscious par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courages a person to take action guided by the principle of satisfaction and secu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unconsciou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which desires and other contents are suppressed, is also active and stimulates a person to a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Arbitrary Division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292720" y="1989000"/>
            <a:ext cx="3600360" cy="2654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impulses and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ical</a:t>
            </a:r>
            <a:r>
              <a:rPr b="0" lang="sr-Latn-RS" sz="2400" spc="-1" strike="noStrike">
                <a:solidFill>
                  <a:srgbClr val="ffffff"/>
                </a:solidFill>
                <a:latin typeface="Garamond"/>
              </a:rPr>
              <a:t>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on the pleasur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7579440" y="5805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l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92720" y="2924280"/>
            <a:ext cx="3600360" cy="3751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ys of performing tasks from the Id, Superego and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s of personal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according to the principle of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292720" y="4365720"/>
            <a:ext cx="3600360" cy="302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valu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function of self-observer and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go ideal a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nflict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7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188" name="Left-Right Arrow 4"/>
          <p:cNvGrpSpPr/>
          <p:nvPr/>
        </p:nvGrpSpPr>
        <p:grpSpPr>
          <a:xfrm>
            <a:off x="2413080" y="4038480"/>
            <a:ext cx="863640" cy="609840"/>
            <a:chOff x="2413080" y="4038480"/>
            <a:chExt cx="863640" cy="609840"/>
          </a:xfrm>
        </p:grpSpPr>
        <p:pic>
          <p:nvPicPr>
            <p:cNvPr id="189" name="Left-Right Arrow 4" descr=""/>
            <p:cNvPicPr/>
            <p:nvPr/>
          </p:nvPicPr>
          <p:blipFill>
            <a:blip r:embed="rId2"/>
            <a:stretch/>
          </p:blipFill>
          <p:spPr>
            <a:xfrm>
              <a:off x="2413080" y="4038480"/>
              <a:ext cx="8636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04960" y="4199040"/>
              <a:ext cx="478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Left-Right Arrow 6"/>
          <p:cNvGrpSpPr/>
          <p:nvPr/>
        </p:nvGrpSpPr>
        <p:grpSpPr>
          <a:xfrm>
            <a:off x="7645320" y="1422360"/>
            <a:ext cx="609840" cy="2146320"/>
            <a:chOff x="7645320" y="1422360"/>
            <a:chExt cx="609840" cy="2146320"/>
          </a:xfrm>
        </p:grpSpPr>
        <p:pic>
          <p:nvPicPr>
            <p:cNvPr id="192" name="Left-Right Arrow 6" descr=""/>
            <p:cNvPicPr/>
            <p:nvPr/>
          </p:nvPicPr>
          <p:blipFill>
            <a:blip r:embed="rId3"/>
            <a:stretch/>
          </p:blipFill>
          <p:spPr>
            <a:xfrm>
              <a:off x="7645320" y="1422360"/>
              <a:ext cx="60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7095960" y="2371680"/>
              <a:ext cx="177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-44640" y="836640"/>
            <a:ext cx="41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Left-Right Arrow 8"/>
          <p:cNvGrpSpPr/>
          <p:nvPr/>
        </p:nvGrpSpPr>
        <p:grpSpPr>
          <a:xfrm>
            <a:off x="723960" y="1206360"/>
            <a:ext cx="952560" cy="1244880"/>
            <a:chOff x="723960" y="1206360"/>
            <a:chExt cx="952560" cy="1244880"/>
          </a:xfrm>
        </p:grpSpPr>
        <p:pic>
          <p:nvPicPr>
            <p:cNvPr id="196" name="Left-Right Arrow 8" descr=""/>
            <p:cNvPicPr/>
            <p:nvPr/>
          </p:nvPicPr>
          <p:blipFill>
            <a:blip r:embed="rId4"/>
            <a:stretch/>
          </p:blipFill>
          <p:spPr>
            <a:xfrm>
              <a:off x="723960" y="1206360"/>
              <a:ext cx="9525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882600">
              <a:off x="764640" y="1710000"/>
              <a:ext cx="868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Left-Right Arrow 9"/>
          <p:cNvGrpSpPr/>
          <p:nvPr/>
        </p:nvGrpSpPr>
        <p:grpSpPr>
          <a:xfrm>
            <a:off x="2489040" y="5842080"/>
            <a:ext cx="851040" cy="609480"/>
            <a:chOff x="2489040" y="5842080"/>
            <a:chExt cx="851040" cy="609480"/>
          </a:xfrm>
        </p:grpSpPr>
        <p:pic>
          <p:nvPicPr>
            <p:cNvPr id="199" name="Left-Right Arrow 9" descr=""/>
            <p:cNvPicPr/>
            <p:nvPr/>
          </p:nvPicPr>
          <p:blipFill>
            <a:blip r:embed="rId5"/>
            <a:stretch/>
          </p:blipFill>
          <p:spPr>
            <a:xfrm>
              <a:off x="2489040" y="5842080"/>
              <a:ext cx="851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76600" y="5999040"/>
              <a:ext cx="4777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Role of Conflic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flicts produce discomfort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nxie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poor personality functioning (dysfunctionality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solved by overlooking one of the conflicting elements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xcluding it from the conscious part of the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ion mechanism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used to exclude content or memories that cause discomfort or pain from the conscious part of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ppress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done either by the Superego, or it is done by the Ego at its behest, which in that case is submissive to 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voluntary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clusion of conflicting or unpleasant thoughts, memories or impulses from consciou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i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rimary Ego defense mechanis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other mechanisms only reinforce the sup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evels of consciousness relevant to suppression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e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b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7" name="Right Arrow 3"/>
          <p:cNvGrpSpPr/>
          <p:nvPr/>
        </p:nvGrpSpPr>
        <p:grpSpPr>
          <a:xfrm>
            <a:off x="4064040" y="2019240"/>
            <a:ext cx="1003320" cy="711360"/>
            <a:chOff x="4064040" y="2019240"/>
            <a:chExt cx="1003320" cy="711360"/>
          </a:xfrm>
        </p:grpSpPr>
        <p:pic>
          <p:nvPicPr>
            <p:cNvPr id="208" name="Right Arrow 3" descr=""/>
            <p:cNvPicPr/>
            <p:nvPr/>
          </p:nvPicPr>
          <p:blipFill>
            <a:blip r:embed="rId1"/>
            <a:stretch/>
          </p:blipFill>
          <p:spPr>
            <a:xfrm>
              <a:off x="4064040" y="20192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5400000">
              <a:off x="4371480" y="2085840"/>
              <a:ext cx="432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ight Arrow 4"/>
          <p:cNvGrpSpPr/>
          <p:nvPr/>
        </p:nvGrpSpPr>
        <p:grpSpPr>
          <a:xfrm>
            <a:off x="4064040" y="3174840"/>
            <a:ext cx="1003320" cy="711360"/>
            <a:chOff x="4064040" y="3174840"/>
            <a:chExt cx="1003320" cy="711360"/>
          </a:xfrm>
        </p:grpSpPr>
        <p:pic>
          <p:nvPicPr>
            <p:cNvPr id="211" name="Right Arrow 4" descr=""/>
            <p:cNvPicPr/>
            <p:nvPr/>
          </p:nvPicPr>
          <p:blipFill>
            <a:blip r:embed="rId2"/>
            <a:stretch/>
          </p:blipFill>
          <p:spPr>
            <a:xfrm>
              <a:off x="4064040" y="31748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371840" y="3238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ight Arrow 5"/>
          <p:cNvGrpSpPr/>
          <p:nvPr/>
        </p:nvGrpSpPr>
        <p:grpSpPr>
          <a:xfrm>
            <a:off x="4064040" y="4178160"/>
            <a:ext cx="1003320" cy="711360"/>
            <a:chOff x="4064040" y="4178160"/>
            <a:chExt cx="1003320" cy="711360"/>
          </a:xfrm>
        </p:grpSpPr>
        <p:pic>
          <p:nvPicPr>
            <p:cNvPr id="214" name="Right Arrow 5" descr=""/>
            <p:cNvPicPr/>
            <p:nvPr/>
          </p:nvPicPr>
          <p:blipFill>
            <a:blip r:embed="rId3"/>
            <a:stretch/>
          </p:blipFill>
          <p:spPr>
            <a:xfrm>
              <a:off x="4064040" y="417816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5400000">
              <a:off x="4371840" y="4246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10"/>
          <p:cNvSpPr/>
          <p:nvPr/>
        </p:nvSpPr>
        <p:spPr>
          <a:xfrm>
            <a:off x="97164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ergy consumption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(counter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Importance of Ego-Defense Mechanism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sychic phenomena used to support the suppression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ary function of Ego-defense mechanisms is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ducing anxiety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tection of the Ego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upporting suppression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 functions in his totality, trying to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grate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herited nature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dividual personality development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vents of everyday lif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formative importanc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one of the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ories of personality were created as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f psychological studies and find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15920"/>
          <a:ext cx="8640720" cy="6653160"/>
        </p:xfrm>
        <a:graphic>
          <a:graphicData uri="http://schemas.openxmlformats.org/drawingml/2006/table">
            <a:tbl>
              <a:tblPr/>
              <a:tblGrid>
                <a:gridCol w="3141720"/>
                <a:gridCol w="5499000"/>
              </a:tblGrid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o defense mechan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pla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li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weakening of one instinctive impulse by using t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nergy of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ssimilation of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o one's own Ego or Super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dentif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consciou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cceptance of another person's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replacing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ith which the instinctive impulses are satis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tion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pting or resorting to a socially acceptable, more or les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ogical explan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or actions or decisions that are actually produced by unconscious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active 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ing to the other extreme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the opposi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overcompensation for unacceptable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perso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ttributes his own thoughts, emotions or impulses to another per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localizes them in the objects of the extern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gr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tendency for the personality to return to a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arlier situ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which is more pleasant, because the current situation is painful, unbea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ges in Psychosexual and Psychosocial developmen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-12600" y="1689120"/>
            <a:ext cx="8889840" cy="167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79280" y="3429000"/>
            <a:ext cx="17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sucking, ad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biting, aggression, sa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lcoh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2600" y="3059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2nd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   3-6 years              7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90800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xpulsive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expulsiv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retention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reten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sessive-compul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ersonali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0836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oedipal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rim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castration f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rigidity, anorgasmia, impo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xie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36400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same-sex friendshi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164360" y="3500280"/>
            <a:ext cx="172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arl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midd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lat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dependence -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 Objective View in Psychiat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non-compliance of psychiatrists in the process of diagnosis showed significant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attempt to minimize the subjectivity of psychiatrist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cise diagnostic principles and minimum symptoms that should be determined for each nosological unit have been elabora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assification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thoanatomical classifica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organic and functional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ording to etiolog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endogenous and exogenous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mptomat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chogen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active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0720" y="560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assification of Mental Disord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ased on Clinical Phenomenolog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680" y="1717560"/>
            <a:ext cx="43894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national Classification of Diseases and Related Health Problems,</a:t>
            </a:r>
            <a:r>
              <a:rPr b="1" lang="sr-Latn-R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vision (ICD-10)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orld Health Organ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6280" y="3197160"/>
            <a:ext cx="4039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00-F99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6000" y="1862280"/>
            <a:ext cx="4248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iagnostic and Statistical Manual, 5th Revision – DSM-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erican Psychiatric Associ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Content Placeholder 9" descr="index.jpg"/>
          <p:cNvPicPr/>
          <p:nvPr/>
        </p:nvPicPr>
        <p:blipFill>
          <a:blip r:embed="rId1"/>
          <a:stretch/>
        </p:blipFill>
        <p:spPr>
          <a:xfrm>
            <a:off x="5219640" y="4221000"/>
            <a:ext cx="2895840" cy="158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age result for mkb 10"/>
          <p:cNvPicPr/>
          <p:nvPr/>
        </p:nvPicPr>
        <p:blipFill>
          <a:blip r:embed="rId2"/>
          <a:stretch/>
        </p:blipFill>
        <p:spPr>
          <a:xfrm>
            <a:off x="1765440" y="377352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Oval 8"/>
          <p:cNvSpPr/>
          <p:nvPr/>
        </p:nvSpPr>
        <p:spPr>
          <a:xfrm>
            <a:off x="357120" y="1197000"/>
            <a:ext cx="3422880" cy="874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 and behavioral disorders are the result of complex interactions between biological, psychological and social factor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, physical and social health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re interwined and interdependen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4572000" y="2235240"/>
            <a:ext cx="45720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5"/>
          <p:cNvCxnSpPr/>
          <p:nvPr/>
        </p:nvCxnSpPr>
        <p:spPr>
          <a:xfrm>
            <a:off x="1835280" y="2060640"/>
            <a:ext cx="5023080" cy="2448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gnosis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amnesi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ut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data is obtained from the patient himself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heter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taking data from another person, family member or frien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direct and active conducting of interview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simulation – aggravation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sychiatric interview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herapist is the main weapon of the int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the first meeting, the therapist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mpath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specially importa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rbal and non-verbal communic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"/>
          <p:cNvPicPr/>
          <p:nvPr/>
        </p:nvPicPr>
        <p:blipFill>
          <a:blip r:embed="rId1"/>
          <a:stretch/>
        </p:blipFill>
        <p:spPr>
          <a:xfrm>
            <a:off x="457200" y="24120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utline of Psychiatric Hist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dentifying dat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ief complai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story of Present Ill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mily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ental Status Examin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General Appearance and Behavior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Speech Characteristic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onsciousness and Orienta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Think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telligen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motions (Mood and Affect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g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Willpower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lang="sr-RS" sz="2600" spc="-1" strike="noStrike">
                <a:solidFill>
                  <a:srgbClr val="c00000"/>
                </a:solidFill>
                <a:latin typeface="Garamond"/>
              </a:rPr>
              <a:t>10.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al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Insight and Judge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mentary methods in the examination of mental disord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sychological tests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titud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rsonality tests (questionnaires and projectiv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ialized tests for examination of certain psychological functions and certain clinical syndrome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hysico-biological auxiliary diagnostic method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biochemical analyzes of blood or urine, brain visualization methods, neurophysiological tests, genetic markers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Neuroplastic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earlier dogma that the adult brain cannot produce new neurons through experiments has been challeng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nimals, in the regions responsible for learning and memory, new neurons can be formed in adulthoo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Brain plasticity refers to its ability to change – to respond to stimul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It is manifested b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vascul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synapt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neur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gni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Specific functions and processes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hape recogni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mation of concept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guag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Personality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s a unique organization of traits, formed by the action of the organism and the social environment, and determines a unique way of behav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integrative approach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is needed in looking at the possible etiological factors that caused the emergence of mental disorder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urrently, in our country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he application of ICD-10 for diagnosing mental disorders is legally bind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"psychiatry is best learned from intelligent patients"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eud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came the basis of an entire therapeutic system known a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pose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conscious confli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dler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's basic aspiration is striving for superiority: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”The Will to Power"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influence of Nietzsche's philosoph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 emphasized the role of the conscious part of the personality, as well as the importance of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nvironmental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t the base of the will to power is not sexuality, but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ggressiv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Jung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ddition to the Ego and the personal unconscious, there is also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llective unconsciou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in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ollective unconscious is a collection of latent memory traces inherited from the human pas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ructural components of the collective unconscious ar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chetyp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universal forms of human thoughts and ide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orney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Basic anxiety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the child's feeling of helples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hild is helpless in a collision with parental autho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Neurotic needs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formed, as an attempt to adapt and overcome basic anxie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se needs dominate the individual, then they are pathologic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omm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personality is shaped by relations with the whole societ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need for association, for status in society, for a sense of identity, for creativity etc. plays an important role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Garamond"/>
              </a:rPr>
              <a:t>"sentenced to freedom"           "the art of love”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Right Arrow 4"/>
          <p:cNvGrpSpPr/>
          <p:nvPr/>
        </p:nvGrpSpPr>
        <p:grpSpPr>
          <a:xfrm>
            <a:off x="4356000" y="5486400"/>
            <a:ext cx="1117800" cy="1003320"/>
            <a:chOff x="4356000" y="5486400"/>
            <a:chExt cx="1117800" cy="1003320"/>
          </a:xfrm>
        </p:grpSpPr>
        <p:pic>
          <p:nvPicPr>
            <p:cNvPr id="147" name="Right Arrow 4" descr=""/>
            <p:cNvPicPr/>
            <p:nvPr/>
          </p:nvPicPr>
          <p:blipFill>
            <a:blip r:embed="rId1"/>
            <a:stretch/>
          </p:blipFill>
          <p:spPr>
            <a:xfrm>
              <a:off x="4356000" y="5486400"/>
              <a:ext cx="11178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5735520"/>
              <a:ext cx="760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0:21:24Z</dcterms:created>
  <dc:creator>Milica Borovcanin</dc:creator>
  <dc:description/>
  <dc:language>en-US</dc:language>
  <cp:lastModifiedBy>Milica Borovcanin</cp:lastModifiedBy>
  <dcterms:modified xsi:type="dcterms:W3CDTF">2024-02-13T22:57:48Z</dcterms:modified>
  <cp:revision>79</cp:revision>
  <dc:subject/>
  <dc:title>Slide 1</dc:title>
</cp:coreProperties>
</file>